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5DEB-774E-43FA-A877-1D51A3DE8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2DF3-5E6A-4B0C-A0C5-6514622C4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A14E-767B-49DF-AA52-A3D7BC82E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6AD2-F56C-49A2-B233-C3EF032D9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6BFC-8011-40ED-BA56-2EF52BE00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6800-2BC3-4B87-B288-913DC32FA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0B6E-9A70-413C-A718-FB0B6990D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C975-7D08-4C2F-8D30-327964EB6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8C1-D668-4E8C-A3DE-AC261FD94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EAB7-D906-43A0-84FA-CD6CF2767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B3E6-62B2-4718-AF09-999D03C6B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F463-6178-4DA7-9BEE-A2583AABE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AE91-A181-4FDD-8DBC-6FEC5D2E7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92F3-DAB7-49D1-9835-89111C505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38C0-C574-42C8-A79E-1BCFB8E05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FA26-8032-43BE-BCE5-7D4CAA7F3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920D-DDD3-44A1-809E-B2E31998C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C2AA-F428-4046-86C4-6BB458F89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C0AF-9101-4217-993F-349F1B6A2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26A7-9740-4B22-A2B2-A74127C18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742C-50B2-4209-895D-5C363E828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5BC-FE0A-4963-8123-260A250E3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9A1-62BC-41F4-AF3C-292AE4D5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3D1-15DE-4616-B19C-36E215E7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77F-E097-4029-BBEA-BD212555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F6B-AF6A-4F59-A602-694EF4D5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2BA-7658-4ED3-AD3D-0862BCC0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009-A5CB-44D2-B3E6-2B8C7416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0FE-D81B-4FAA-947E-E7E3229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1D2-1DB5-484C-890B-F354F98B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F6B-CBDC-40A6-90AB-5F04AF22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851-FA96-46AF-85FC-D1F8672B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894-0EC2-4962-854F-78CF81E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927-B030-435A-A25F-BE34710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C934-87D4-4DF4-ACF7-E9402D47F1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 1.4.2/1. S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ELEKTRONİK HAVALE, BANKA HESAPLARININ DEVRİ/AÇILMA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iber suç failleri de geleneksel bankacılık hizmetlerinden yararlanmaya devam ed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durum elbette bilhassa, mağdurun banka hesaplarından para aktarılmasını içeren durumlar açısından söz konusud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Geleneksel bankacılık sektöründe, bir mağdurun banka hesabından aktarılan paraların kaynağının gizlenmesinde hangi teknikler kul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 banka hesapları çeşitli siber suç teknikleri kullanılarak (örn. kimlik hırsızlığı, kötü amaçlı yazılım) ihlal edili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un banka hesabına yeni lehdarlar eklenir ve paralar kurye hesap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lar nakit olarak çekilir veya başka nokta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Havaleler bildirim için öngörülen miktarın altında kalması için ufak meblağlarda yap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nın kaynağının gizlenmesi için kurye hesaplara anlamsız aktarımlar içeren karmaşık yapılar kullan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Müşterilerin Korunmas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Finans kuruluşları müşterilerin ihlal edilen internet bankacılığı kimliklerinin kötüye kullanılmasını önlemek için ne gibi kontrol araçları kullanı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NAKİT ÇEKİM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para siber suçlular açısından ne gibi güçlükler yaratıy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Ödeme kartı ile bağlantılı suçlar gibi kimi siber suç örneklerinde suç gelirleri anında nakit olarak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aşka örneklerde ise başka tür suçlardan elde edilen suç gelirleri kurye hesaplara aktarılır ve buradan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u nakit paralar genelde çeşitli teknikler kullanılarak yeniden finans sistemine sokulur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Çeşitli türlerde ön ödemeli kartlar satın alınarak (örn. mağaza puanı, cep telefonu kontörü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Para kuryeleri veya ihlal edilmiş banka hesapları kullanılar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ÖDEME HİZMETLER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 yoluyla elde edilen paralar bir İnternet Ödeme Hizmeti hesabına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İki seçene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 bir sanal banka hesabına benzer hizmetler sunar; yani “internet havalesi/banka hesabı açılması veya devri”ne benzer özellikler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nde tutulan paralar internet üzerinden mal ve hizmet alımında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99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İnternet Ödeme Hizmetlerinden Elde Edilen Paraların/Paralara Dondurulması, El Konulması ve Müsaderes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895480"/>
            <a:ext cx="822960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i sağlayıcısının elindeki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0388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 HAVALESİ SAĞLAYICIL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 ile ilgili sorun ne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s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nsanlar (bilerek veya bilmeyerek), genellikle “evden çalışın” türünden iş teklifleriyle kara para aklama planlarında kurye olarak çalıştı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 gelirleri kuryelerin banka hesaplar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parayı nakit olarak çeker ve bu nakit parayı belirli bir lehdara havale yoluyla aktar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bu hizmeti yerine getirdiği için komisyon olarak bir ödeme a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para aktarımları, fark edilmesin diye, bildirim için öngörülen miktarın altındaki bir meblağdan oluş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Havale sağlayıcıları sonra nakit paranın nihai varış noktasına ulaştırılmasında tekrar kullan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uç Ortağı olan Sağlayıc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elirli bir havale sağlayıcının yoğun olarak kullanıldığı tespit edilen durumlar muvazaa ihtimali veya bu türden işlerin içine sızılmış olma olasılığı hakkında soru işaretleri uyandı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kullanıldığ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18:03Z</dcterms:modified>
  <cp:revision>338</cp:revision>
  <dc:subject/>
  <dc:title>PowerPoint Presentation</dc:title>
</cp:coreProperties>
</file>